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BF8-2525-4207-9375-2F88933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87B-E754-4712-B327-E9DD67B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1DA-60CE-45BC-B9D1-22130CFE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90A-C196-416E-A213-F288F6B3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30C2-6A18-416D-A3B0-D2AE408C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C9A8-CFA7-4CED-BD84-2683EBA2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2AAD-5146-40C7-8C7C-48422AE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F328-DFD2-4D95-A0BD-FE1F69C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DFE2-B124-4095-9538-55711F3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575-53FF-4545-8050-1E1922CC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0967-4008-44C5-ABE0-DAA4A0F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1C6-61FC-43FB-8A3B-8FA6C92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ACC3-A16F-4BCD-ABF8-F80E3CF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4764-25CD-48A0-96EA-D1F32A3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E683-3CF7-41AA-98FC-69EB7BD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0878-D79A-47C3-9B4F-E940CCA6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2E79-BADD-4181-8297-A4401329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3EA0-6CE4-4357-96D5-EDCA3648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8A12-6CFA-4F70-A7CE-0EB4CE3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9CE4-2423-4BEA-9792-7F4175C5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0428-B431-4E6E-A667-149059B5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7FB5-80AE-428B-B2DC-4DDA941B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517-19D9-425A-BB1E-619F055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E214-B4F0-4956-8241-0D8C30B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4BE8-0681-4420-B2DB-F66CAB9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18B7-FF10-45FF-B7BA-F8DA735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97CC-EF94-4130-95D2-64CB70B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6B5A-5309-4A8A-97A0-C80FA6D0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DC84-91C1-434F-8986-900D8D46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584D-51D9-48CC-9DD7-46718F79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7BD2-ECCC-497C-84B9-DA1864FE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394B-F406-4D7C-9096-6B26A2A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8B5D-D0D2-43FA-865B-FFF4BF1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39-8A68-4C42-B209-F82B582F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6890-6A59-4623-825A-8A17CAC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9819-DBCE-497C-8782-0FBA1B1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38FE-A4F6-4D97-ADFC-DE6DBC7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9BF3-E5F4-4D7D-B6D7-6045407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EDA6-453D-4836-AF7F-3349E06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CB03-EC9D-458E-ADA8-9AA7430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43D3-3D78-4385-BF8E-5421CE2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98B4-4CB4-49F8-8C3A-4055FB75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9C0C-4009-4131-9E21-7516326A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C4B-9D41-404F-97F7-9C42A00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488-6A01-416D-9F26-45590C3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005-674E-48CB-83BC-495340F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A1E-9ADE-49E0-9197-31DD9A0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67D-5FF4-4D23-AB4F-79FE2C1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7D7-B48F-498C-A3CC-49B8009AD4FC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A27-F848-4D13-8406-0F9009AB9632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09F-E534-44AB-9A1D-A968EABC8B77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D8D0-0EE8-44C9-BA41-D73F66B8B193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Referente clásico de India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Jones y la última cruz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928800" y="5572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Zara Queralt Martíne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928800" y="71424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LAS FAS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1.El encargo prev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1                                                         1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1.1 : el rey de Eetes , Pelias , le hizo el encargo previo a Jasón, el vellocino de oro, para así coronarlo nuevo rey. Tal como el oráculo le decía al rey , un hombre con una  sola sandalia le arrebataría su reino. El la imagen 1.2 tenemos el encargo previo ,el santo grial, que su padre le pi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4 Imagen" descr="07000[1].jpg"/>
          <p:cNvPicPr/>
          <p:nvPr/>
        </p:nvPicPr>
        <p:blipFill>
          <a:blip r:embed="rId1"/>
          <a:stretch/>
        </p:blipFill>
        <p:spPr>
          <a:xfrm>
            <a:off x="1214280" y="2143080"/>
            <a:ext cx="1714680" cy="23925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encargo previo de indy.jpg"/>
          <p:cNvPicPr/>
          <p:nvPr/>
        </p:nvPicPr>
        <p:blipFill>
          <a:blip r:embed="rId2"/>
          <a:stretch/>
        </p:blipFill>
        <p:spPr>
          <a:xfrm>
            <a:off x="4572000" y="2143080"/>
            <a:ext cx="400068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CuadroTexto"/>
          <p:cNvSpPr/>
          <p:nvPr/>
        </p:nvSpPr>
        <p:spPr>
          <a:xfrm>
            <a:off x="714240" y="1071720"/>
            <a:ext cx="821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2.El viaje largo y accident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1                                                                  2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2.1:  Jasón y los argonautas  cruzando las rocas cianeas en su largo viaje accidentado así llamado por  sus numerosos  imprevistos durante este . En la imagen 2.2 :esta imagen representa a las rocas cianeas que tiene que pasa por el med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4 Imagen" descr="Image24[1].jpg"/>
          <p:cNvPicPr/>
          <p:nvPr/>
        </p:nvPicPr>
        <p:blipFill>
          <a:blip r:embed="rId1"/>
          <a:stretch/>
        </p:blipFill>
        <p:spPr>
          <a:xfrm>
            <a:off x="785880" y="1928880"/>
            <a:ext cx="318132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6 Imagen" descr="rocas cianeas en indiana jones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71920" cy="22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714240" y="114300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3.Llegada al lug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                                                             3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:llegada al lugar  y enfrentamiento por conseguir  el vellocino de oro . En la imagen 3.2  observamos que Indiana , tras la llegada al lugar destinado , tiene que enfrentarse con la competencia ,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4 Imagen" descr="mitojason1[1].jpg"/>
          <p:cNvPicPr/>
          <p:nvPr/>
        </p:nvPicPr>
        <p:blipFill>
          <a:blip r:embed="rId1"/>
          <a:stretch/>
        </p:blipFill>
        <p:spPr>
          <a:xfrm>
            <a:off x="857160" y="2143080"/>
            <a:ext cx="268308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viaje accidentado de indy.jpg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CuadroTexto"/>
          <p:cNvSpPr/>
          <p:nvPr/>
        </p:nvSpPr>
        <p:spPr>
          <a:xfrm>
            <a:off x="57168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4.La ayuda inesperada y amoro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4.1                                                                   4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4.1:  Aparece Medea , hija del rey, para ayudar a Jasón a pasar las pruebas para conseguir el vellocino de oro . En la 4.2 Indiana recibe la ayuda inesperada de  Elsa , la joven alemana que había ido contra él al principio de la búsqueda. Ayuda a elegir mal la copa a uno de los suyos par así darsela a Ind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5 Imagen" descr="jasonmedea[1].jpg"/>
          <p:cNvPicPr/>
          <p:nvPr/>
        </p:nvPicPr>
        <p:blipFill>
          <a:blip r:embed="rId1"/>
          <a:stretch/>
        </p:blipFill>
        <p:spPr>
          <a:xfrm>
            <a:off x="714240" y="207180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6 Imagen" descr="fsdadgag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43200" cy="27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CuadroTexto"/>
          <p:cNvSpPr/>
          <p:nvPr/>
        </p:nvSpPr>
        <p:spPr>
          <a:xfrm>
            <a:off x="571680" y="135720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5.Huída accidenta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.1                                                            5.2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Podemos observar   en la imagen 5.1 a los argonautas huyendo por el Danubio perseguidos por los  colcos  y luego los argonautas consiguieron la victor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la imagen 5.2 aparece la huida de India Jones  escapando de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5 Imagen" descr="argonautas1[1].jpg"/>
          <p:cNvPicPr/>
          <p:nvPr/>
        </p:nvPicPr>
        <p:blipFill>
          <a:blip r:embed="rId1"/>
          <a:stretch/>
        </p:blipFill>
        <p:spPr>
          <a:xfrm>
            <a:off x="785880" y="228600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212" name="3 Imagen" descr="persecucion.jpg"/>
          <p:cNvPicPr/>
          <p:nvPr/>
        </p:nvPicPr>
        <p:blipFill>
          <a:blip r:embed="rId2"/>
          <a:stretch/>
        </p:blipFill>
        <p:spPr>
          <a:xfrm>
            <a:off x="4286160" y="2286000"/>
            <a:ext cx="4143600" cy="23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3 CuadroTexto"/>
          <p:cNvSpPr/>
          <p:nvPr/>
        </p:nvSpPr>
        <p:spPr>
          <a:xfrm>
            <a:off x="571680" y="1285920"/>
            <a:ext cx="8143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6.Retorno victor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6.1                                                                     6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6.1: Jasón , tras pasar las pruebas que el rey le había impuesto , a logrado conseguir el vellocino de oro. En la siguiente imagen aparece Indiana Jones con el cáliz ,mediante la ayuda de su libro a logrado conseguirl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4 Imagen" descr="argonautas%20Jason%20De%20Erasmo%20Quellinus[1].jpg"/>
          <p:cNvPicPr/>
          <p:nvPr/>
        </p:nvPicPr>
        <p:blipFill>
          <a:blip r:embed="rId1"/>
          <a:stretch/>
        </p:blipFill>
        <p:spPr>
          <a:xfrm>
            <a:off x="714240" y="22147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5 Imagen" descr="indiana con el cáliz.jpg"/>
          <p:cNvPicPr/>
          <p:nvPr/>
        </p:nvPicPr>
        <p:blipFill>
          <a:blip r:embed="rId2"/>
          <a:stretch/>
        </p:blipFill>
        <p:spPr>
          <a:xfrm>
            <a:off x="5000760" y="221472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07:22Z</dcterms:created>
  <dc:creator>LG</dc:creator>
  <dc:description/>
  <dc:language>en-US</dc:language>
  <cp:lastModifiedBy>LG</cp:lastModifiedBy>
  <dcterms:modified xsi:type="dcterms:W3CDTF">2010-01-31T19:36:57Z</dcterms:modified>
  <cp:revision>29</cp:revision>
  <dc:subject/>
  <dc:title>JASÓN Y LOS ARGONAUTAS</dc:title>
</cp:coreProperties>
</file>